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8FC-939B-4575-8AEC-9D81A68E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C56-FE74-4F77-9719-790A69CA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C5B-F91F-4256-A251-E808A022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B31-F4FB-4104-89B0-688D2821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5E97-9811-4B31-963B-4D162196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3FD-1C75-4FD3-AA7A-BB1333B8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335E-C784-4725-8B9D-691B558A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C639-07A7-439D-8E0E-C2F64D99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241-87E8-4F10-ADD5-2810CA69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52B-8042-4399-B3E8-6DF9B7D0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71A3-851C-446D-B8DD-A440AA09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FE6-6DB8-4837-B8FD-1B14FD94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D097-794A-457F-A956-12CA91AC81A6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20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520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43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724280" y="609480"/>
            <a:ext cx="426744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م لا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ن كان الآب يمنحني الغفران،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ماذا لا أعلن توبتي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هو يشاءُ خلاصَ الإنسان،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ماذا أعمل بمشيئتي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4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262160" y="3657600"/>
            <a:ext cx="66196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سارَ أمامي ليعطيني الرجاء، لماذا أتبع شريعت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اتَ وقامَ ليعطيني الحياة، لمَِ أموتُ في خطيئت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4495680"/>
            <a:ext cx="8001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إن كان الآب ينبوع الأمان، لماذا لا أسرع وأستقي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لِمَ لا أرجع إليه الآن، فالوقتُ ضائعٌ في غربتي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90720" y="4267080"/>
            <a:ext cx="69436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ضمَّ أوجاعي بين ساعديه، لِمَ أضيعُ سعادت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أرسلني لأنشرَ السلام، لِمَ لا أبدءُ بخطوت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995400" y="4838760"/>
            <a:ext cx="7153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إن كان يحملُ عني الأعباء، لماذا أنحني بأثقالي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أعدَّ لي جسراً نحو السماء، لا لن أموتَ في خطيئتي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1:01:16Z</dcterms:created>
  <dc:creator>user</dc:creator>
  <dc:description/>
  <dc:language>en-US</dc:language>
  <cp:lastModifiedBy>user</cp:lastModifiedBy>
  <dcterms:modified xsi:type="dcterms:W3CDTF">2006-09-01T16:35:09Z</dcterms:modified>
  <cp:revision>11</cp:revision>
  <dc:subject/>
  <dc:title>Slide 1</dc:title>
</cp:coreProperties>
</file>